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8666-14F8-4DD4-A14C-A7997F9BD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44A0-FF1D-4C5E-AAB8-CB0EA0BE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0FE7-FA2C-4F9C-84A5-41BDD34DE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07A1-DD79-447F-A257-5FBF07EC1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FE2A-0B52-4026-A3D9-21BA92B9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7696-F4DC-4420-BEBD-9AF49DDC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49FC-40A8-4BFE-9341-FF31DFB7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3E11-0A59-42A7-BF30-9AF37F9A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580F-6A90-411F-AE21-044CA60C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A29D-4EE5-4D9A-BF60-04ED3D7E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FA77-F260-45DF-9E72-9F04E609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1142-1AD5-43DA-90D0-E252C9ED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CA78-D3F6-4635-9461-0A8BF77D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8830-17BC-4427-B870-148B84AA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3710-1E81-4DE8-9403-289E4F96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3132-EA45-4C97-AD3D-57B856E2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4B50-628E-4CA8-B078-E43277CC4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0214-907D-47CB-A8F5-3723EEB5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998B-B06B-486B-B3BE-0531D34D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89BF-4762-4772-8B2E-9960CF82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F800-C43C-458F-B6F9-0363C8B4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95F2-91F9-4586-AAAC-02B59145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D187-C9B6-4749-B0F3-C6983EC5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551C-CA45-489F-B5C2-53E44249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A447-67FE-4173-9D72-61DF403C6CB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214C-2D2D-478B-B573-ADEA47730F5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econd Language Acqui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Think Abou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nk about a baby acquiring his/her first languag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nk about a person acquiring a seco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nguag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similarities and differences are there in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processe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CS ( Basic Interpersonal Communication Skill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to 3 yea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bility to converse and understand every day  discuss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P (Cognitive Academic Language Proficienc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to 7 yea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bility to read, write, speak, and listen at an academic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ges in Second Language Acqui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reproduction/Comprehension Stag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racteristic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lent perio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respond non-verbal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 be able to understand more than they can produ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arly Speech Productio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Characteristics</a:t>
            </a:r>
            <a:br>
              <a:rPr sz="36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understand more than can produ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produce one or two words at a tim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 pick up phrases (He cutted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 make lots of erro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language occurs (a mixture of vocabulary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structures from both languages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Speech Emergence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aracterist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 be able to  understand more than they can produ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language continues to occu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nger uttera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reases in erro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Intermediate Fluency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aracterist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pear orally flu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rrors are same errors native speakers mak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ruggle with content area reading and writ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First Languag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Think Abou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you think the child’s first language is a hindrance or a help in terms of learning a second languag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mmon Underlying Proficiency/Transferability Theor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y skills and concepts are common or interdependent across languag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skill or concept learned in one languag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ansfer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another language when the requisite vocabulary is acqui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114800" y="985680"/>
            <a:ext cx="1828800" cy="427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209680" y="990720"/>
            <a:ext cx="186696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9625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599840" y="3962520"/>
            <a:ext cx="201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-457200" y="304920"/>
            <a:ext cx="91440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ational Pro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50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gnitive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1143000"/>
            <a:ext cx="91440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1752480"/>
            <a:ext cx="914400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reh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2133720"/>
            <a:ext cx="91440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7339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191120"/>
            <a:ext cx="91440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648320"/>
            <a:ext cx="9144000" cy="21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62320" y="4952880"/>
            <a:ext cx="350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gnitive Academic Pro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Literacy Skills Transfer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rectiona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bility to distinguish shapes and soun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nowledge that written symbols correspond to sounds and can be decoded in order and dire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tivation of semantic and syntactic knowled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nowledge of tex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arning to use cues to predict meaning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wareness of the variety of purposes for reading  and wri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idence in oneself as a reader and wri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First and Second Language Acquisitio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aracteristic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1 Learne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L2 Learn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structs language from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prior conceptual knowledg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s an active learner who tes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and revises hypotheses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requires interaction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es cognitive strategies(i.e.,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overgeneralization)                                             x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derstands more when input is modifi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(caretaker talk, foreign talk)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develops language in predictable stages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makes developmental errors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experiences a silent period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Skills Do Not Transfer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itical and Cultural Litera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nterpretation of text given a specific cultural world view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rom: C. Roberts. (1994). Transferring literacy skills from L1 to L2: From theory to practice. In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mic Sans MS"/>
              </a:rPr>
              <a:t>The Journal of Educational Issues of Language Minority  Students,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v. p. 209-22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reshold Hypothe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lingualism has been viewed as a handicap and a cause of cognitive confus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reason for this view is Interlangu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other reason has to do with th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reshold Hypothes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reshold Hypothesi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better developed the L1, the better developed the L2 can b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gh level of proficiency in L1-high level of proficiency in L2 is possi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low level of proficiency in L1-lower level of proficiency in L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lication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do you think the implications of this are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resholds Theo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2819520" y="914400"/>
            <a:ext cx="3657600" cy="762120"/>
          </a:xfrm>
          <a:prstGeom prst="triangle">
            <a:avLst>
              <a:gd name="adj" fmla="val 50000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19520" y="1676520"/>
            <a:ext cx="3657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3200400"/>
            <a:ext cx="36576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19520" y="4572000"/>
            <a:ext cx="36576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1905120"/>
            <a:ext cx="34290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p Floor—Balanced Bilingu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5480" y="3200400"/>
            <a:ext cx="34290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dle Floor—Less Balanced Bilingu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46483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95480" y="4724280"/>
            <a:ext cx="35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wer floor–Limited Bilingu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2057400"/>
            <a:ext cx="198108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066320" y="2057400"/>
            <a:ext cx="175284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48520" y="2438280"/>
            <a:ext cx="182880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447560" y="2438280"/>
            <a:ext cx="152388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90920" y="25146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33720" y="36576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62320" y="31240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71600" y="5334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28800" y="4191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00200" y="4724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5638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05720" y="5638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400800" y="24379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705720" y="28951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6858000" y="3276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7086600" y="3733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7315200" y="42667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7543800" y="46483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924680" y="52574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91520" cy="623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TERPRISES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s that students genuinely want to solve, problems that naturally entail reading, writing, and discussion. Finding the right enterprise is, in my view, a major goal of the teaching profession.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lass project that involves analyzing and writing about water in the community, rather than writing a book repor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Krashen, p. 23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219320" y="380880"/>
            <a:ext cx="6933960" cy="53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1 Learn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2 Lear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usually more cognitively develop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has a greater knowledge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worl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can learn and apply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easil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ually has more control over inpu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 an L1 as a resour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familiar with one or more other cultur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have a problem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itude/motiv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more likely to be inhibited or anxio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ed from: P. Richard-Amato. (1996)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Making it happen: Interaction in the seco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language classroom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2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ge and Second Language Acqui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Think Abou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it better to learn a second language when one is young or when one is olde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ritical Period Hypothe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Critical Period Hypothesis states that an individual must acquire a language by a critical period or it will be difficult to acquire a language. This is in terms of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rst Language Acquisi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ain advantage to learning a language when younger is that the individual is more likely to acquire a native-like accent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roficiency: What is i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Think Abou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a person proficient in a second language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do you know a person is proficien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roficiency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mmatical Compet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stery of language cod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xic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d formation ru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tence formation ru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nunciation ru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ll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ciolinguistic Compet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stery of appropriate language use n different contex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ourse Compet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stery of how to combine meanings and forms to create a text in different mo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xamples: telephone inquiry, argumentativ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ssays, recip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rategic Compet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stery of verbal and non-verbal strategies to compensate for breakdowns in commun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roficiency: How long does it take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Think Abou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you wanted to learn a second language, how long do you think it would take you to speak and understand that language? How long would it take you to read and writ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8:43:16Z</dcterms:created>
  <dc:creator>Osornio</dc:creator>
  <dc:description/>
  <dc:language>en-US</dc:language>
  <cp:lastModifiedBy>College of Education</cp:lastModifiedBy>
  <dcterms:modified xsi:type="dcterms:W3CDTF">2006-07-05T23:42:47Z</dcterms:modified>
  <cp:revision>10</cp:revision>
  <dc:subject/>
  <dc:title>Second Language Acquisition</dc:title>
</cp:coreProperties>
</file>